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wmf" ContentType="image/x-wmf"/>
  <Override PartName="/ppt/media/image14.wmf" ContentType="image/x-wmf"/>
  <Override PartName="/ppt/media/image6.gif" ContentType="image/gif"/>
  <Override PartName="/ppt/media/image13.jpeg" ContentType="image/jpeg"/>
  <Override PartName="/ppt/media/image3.wmf" ContentType="image/x-wmf"/>
  <Override PartName="/ppt/media/image1.png" ContentType="image/png"/>
  <Override PartName="/ppt/media/image2.gif" ContentType="image/gif"/>
  <Override PartName="/ppt/media/image15.gif" ContentType="image/gif"/>
  <Override PartName="/ppt/media/image7.jpeg" ContentType="image/jpeg"/>
  <Override PartName="/ppt/media/drumroll.wav" ContentType="audio/x-wav"/>
  <Override PartName="/ppt/media/image10.wmf" ContentType="image/x-wmf"/>
  <Override PartName="/ppt/media/image4.jpeg" ContentType="image/jpeg"/>
  <Override PartName="/ppt/media/image5.gif" ContentType="image/gi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BC5-E2C6-42D0-B729-D88D03E1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BDB-0065-489B-98D1-7AE058CB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C79-D1EA-42E1-B2C4-699D6E34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5B8-AB82-42ED-AC73-58C33799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F412-7D5B-4F7B-9D06-C775214C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C5E-BA4F-4945-AD6B-EEEF6968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7C0E-D2ED-4F2A-AF7E-81C0257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6F31-A01E-4175-BB47-DCB4645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091D-B64F-497E-BC05-3750DE8D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AF3-B5F7-45E2-92A5-D65121DD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07F5-7D9B-478F-81E7-9E6BAD3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76C-A603-420E-A99B-E31FCDD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98D4-704C-4118-94E6-1953CA9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F8F8-4306-4C6B-BD0C-C9742897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5294-B894-476A-9F99-7BA5723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533E-4EBF-4F42-89ED-E345D319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19B7-AC1F-4E2E-98CB-66D4220C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A71-9B8F-47F9-AB29-CFDC5B28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23E-D17C-400E-8516-AEB9BEB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0AB-F9AD-4B96-865D-8B636BB5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3E0-6EC7-4EF2-BC9B-9967665F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FCB-5DCC-4389-AF5B-A3BAD50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0B3-E9B8-4A13-9D50-34BB5BE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61C-00A6-494F-A328-8628016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93D3-6AA9-4651-92A7-CC546E8625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7BE4-14D5-427F-BBF4-4F3E65FC58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600" cy="259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ringing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W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ords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T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o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ife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58672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: Stephanie Wilson-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unt Rainier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4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ia and her neighbors waited anxiously to hear from the rescue organ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do something anxiously, you are acting or doing it because you are nervous and worried about what might happ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mother is anxiously waiting for her son who is not yet hom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0844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which situation might someone be anxious?  Taking a test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talking to a friend on the phon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9874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t’s right!  Someone might be anxious taking a tes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situations when you have acted anxiousl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em with your tea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the girl observes the deer in her garden, she begins 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reciat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wild animal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thing if you enjoy and understand some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appreciate reading informational text because you enjoy learning new thing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86200" y="4267080"/>
            <a:ext cx="1968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ofte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someone helps th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024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ch situation shows appreciation?  Tearing down a forest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31622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59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writing a poem about your mo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t’s right! Writing a poem about your mom would show appreci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 things that you appreciate doing or seein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them with your te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Follow-up Activities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745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y of the things I say might cause someone to be anxious, stand up, pace back and forth, and say 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not, don’t do anyth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 to a new school where you don’t know any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ing your report card with poor grades to your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us is late on the first day of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nting a video ga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ing in front of a big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y of the situations might be examples of appreciation, smile and  say 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not, don’t say anyth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ion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ing to musi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tching a movie over and over ag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tte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ling your classmates na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y of the situations might be examples of wander, say “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not, don’t do anyth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hen looking for her chick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utterfly stopping on each of the flow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oss who is rushing for a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kitten alone in the par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inging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ds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First Day Jit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581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3083040"/>
            <a:ext cx="205740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59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ssessment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74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et’s think about them some mor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your response to each question in a complete senten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-383760"/>
            <a:ext cx="732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in a hurry to go somewhere, are you more likely to wander or be anxious? Expl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1498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-383760"/>
            <a:ext cx="732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d books about owls and then see a video about them, would you appreciate them more or would you be anxious?  Expl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-383760"/>
            <a:ext cx="732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waiting to have your tooth pulled, would you be anxious or wander?  Expl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3244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ry to use these words as we work and play to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ng deer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far away from home to look for territory of their own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walk around with no specific place to go.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erson wanders in the afternoon at the park to relax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603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is the best place for you to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  In the classroom during instruction time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2038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in your neighborhood with your do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062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at’s right you would wander  your neighborhood with your dog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062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me some places where it is safe to wander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uss them with your team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5:42:41Z</dcterms:created>
  <dc:creator>SMurray</dc:creator>
  <dc:description/>
  <dc:language>en-US</dc:language>
  <cp:lastModifiedBy>Lindsay.VanStaden</cp:lastModifiedBy>
  <dcterms:modified xsi:type="dcterms:W3CDTF">2008-06-18T18:42:18Z</dcterms:modified>
  <cp:revision>38</cp:revision>
  <dc:subject/>
  <dc:title>Bringing Words To Life</dc:title>
</cp:coreProperties>
</file>